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6F8-65C6-440D-8845-A18B0660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BCC-457E-4A03-A2EB-D949FBA1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041-30E8-404E-BD99-87D6BD2A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7FE-0339-4E71-95CF-EB6FBE4C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82E-B6E7-4745-947D-3590C233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362-BCC2-4548-93A4-33DEADF5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4A2-94B7-4C42-A369-0247D1E6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0E3-EE4F-45D2-9188-E28352AA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076-17DF-4968-BAB4-96BAF4DF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08D-1825-4135-B774-402B524B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CAB3-FC6E-4E41-AC91-4D631206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7FC-AB7B-4155-B720-69C2E83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19D-DB3C-4D83-BC11-FD564F5F8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D22 (Vernon) Information and Communication Technologies (ICT) Pl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6572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Technology Curriculum Committee Think Tank #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11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ccess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 Standardiza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 Replacemen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 Staff Developmen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ion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iculum Conn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osed Timeline for IC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1 (04/05) - Pla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ith some needs-based, high priority ac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2 (05/06) -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3 (06/07) -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4 (07/08)  Implementation an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ar 5 (08/09 - Revision and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ar 1 - 2004-200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Development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ergent 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the model and proces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onsultant(s) for an Infrastructure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submission for 2005/06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 2 labs at Secondary, 1 at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and establish process for stakeholder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to use communication tools with Mg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and Conduct limited pilo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room Collaboration Proje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posed Year 1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 - Nov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MTC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Group meets to outline draft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 of budget  and enrolment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new Techie/backlog reduction ass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District Serve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P Project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 10 Project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stry directions reviewed (what’s that nois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ar 1 Timeline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rom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of framework by Mg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of Reference for Consultant(s) 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Consultan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MTC draft plan by Mgt Team, Exec Committee,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ation begins for budget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ar 1 - 2004/05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uary - March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trict wide needs and priorities for 05/06, based on input from schools, department, district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budget proposal for submission in BA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 budget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-May-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chool/Department level planning undertaken (Using Porter templates?, et 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 Steps of MT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600200"/>
            <a:ext cx="723924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ment Team Feedback @ Dec 04 Mgt Team M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FP for Infrastructure Review and/or Planning Consulta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Stage for School/Department Level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Infrastructure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 communications with Manage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budget submission for 05/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TC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Peacock (Ch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y Hoff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E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rry West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ris Vardaba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 Gatz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ld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e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ce Weitz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d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agement Team Focus for 04/0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alking the Talk wherever, whe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standing “ICT slot” at Mgt Team for in-service and mode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start using Instant Messaging (MSN) to communicate within district, with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start using Elluminate Live (vClass) for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Groups &amp; Mod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 East (Bloom) Family - Bruce (Rand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ton Family - Bob O (Jerry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ton Family - Grant (Clau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S Family - Morris/Dave L (Bob 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l Family - Harry (Ke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vers: Claudio, Randy, Bob E, Jer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elements of the proposed framework do you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djustments need to be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not addressed with this frame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your “big”, “immediate”  “pressing” nee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your school have an ICT p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Questions from MTC discussions to d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ill the classroom of the future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ill a school of the future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ill the district of the future respond to ever evolving ICT needs and dem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high a priority is ITC for you when compared to other district nee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get the money? What do we trade o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esults are we getting for our investment in 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teachers need to access or use 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support staff need to use I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you want your school/department to be in 3, 4, 5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otable Quotes and Metaph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idgets to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92120" y="1981080"/>
            <a:ext cx="2397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TCC Memb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Curriculu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Peacock (Cha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 Redg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nn Had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o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ris Vardaba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n Lan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on And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 Gatz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ld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e 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ce Weitz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d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k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e to provide input to BAC and Management Team on Information and Communication Technology and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year (04/05)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fix what’s br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year (05/06)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develop a plan and respond to critical/essenti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years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implement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of SD22’s new ICT plan is to have staff of SD22 be able to access and use ICT tool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enhance student lear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 operational efficien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r Beliefs (Principles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CT Plan wil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 stude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 communications and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effici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 and develop a culture of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Achieve Our Vision, our Plan must b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h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aging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ly Sustai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no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ve to evolving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have decided upon 4 “Action” areas, each with its own work plan and timeline, but integrated and coordinated with each of the other action area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r ICT Vision has 4 component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Access Pla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Standardization Pla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Replacement Pla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Staff Development Pl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23:57:39Z</dcterms:created>
  <dc:creator>Harry Adam</dc:creator>
  <dc:description/>
  <dc:language>en-US</dc:language>
  <cp:lastModifiedBy>Harry Adam</cp:lastModifiedBy>
  <cp:lastPrinted>2009-01-28T21:45:26Z</cp:lastPrinted>
  <dcterms:modified xsi:type="dcterms:W3CDTF">2009-11-04T17:20:25Z</dcterms:modified>
  <cp:revision>45</cp:revision>
  <dc:subject/>
  <dc:title>SD22 (Vernon)  Comprehensive Information Technology and  Communications (ITC) Plan 2005 Draft Guidelines</dc:title>
</cp:coreProperties>
</file>