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FF9D-DA03-414B-8DBF-6C13A9F32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12EF-B700-4C06-BB89-49FFE5FE9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FF42-D46C-4230-90B3-5493BA77C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D858-5CEF-4451-BE09-ABA384DBD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AA01-032F-48CA-B82B-55FB7261B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BA5F-3648-4239-AA4A-028BEDBCD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F6A3-CEC8-4DB3-A609-1AE094A39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8C41-B717-4526-A31F-12A05D471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6427-A9F1-48CB-8FAE-B96EC6D6C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BEA2-1A81-4C17-83F0-A2809845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C918-D749-4F51-9681-5241FC28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E643-CC45-49A7-A1BD-D5849606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C7AAE-462B-4A20-AB9E-7E9BED9F4F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8487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D22 (Vernon) Information and Communication Technologies (ICT) Pla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6572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agement Technology Curriculum Committee Think Tank #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uary 11,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 Access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tiona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iculum Conne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 (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ori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dge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li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ential Effici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. Standardization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tiona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iculum Conne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 (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ori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dge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li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ential Effici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. Replacement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tiona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iculum Conne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 (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ori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dge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li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ential Effici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. Staff Development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tiona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iculum Conne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 (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ori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dge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li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ential Effici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posed Timeline for ICT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ar 1 (04/05) - Pla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ith some needs-based, high priority action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ar 2 (05/06) - Imple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ar 3 (06/07) - Imple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ar 4 (07/08)  Implementation and Re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ar 5 (08/09 - Revision and Re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Year 1 - 2004-2005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 Development &amp;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ergent Nee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 the model and process frame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Consultant(s) for an Infrastructure 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re submission for 2005/06 Bu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t in 2 labs at Secondary, 1 at Element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uss and establish process for stakeholder eng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in to use communication tools with Mgt 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 and Conduct limited pilo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reles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room Collaboration Projec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posed Year 1 Time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t - November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r MTC mee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ing Group meets to outline draft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rification of budget  and enrolment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enance new Techie/backlog reduction asse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iew of District Server N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P Project 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ning 10 Project st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stry directions reviewed (what’s that noise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Year 1 Timeline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 from working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rmation of framework by Mgt 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s of Reference for Consultant(s) determ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 of Consultant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iew of MTC draft plan by Mgt Team, Exec Committee,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paration begins for budget sub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Year 1 - 2004/05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nuary - March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er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strict wide needs and priorities for 05/06, based on input from schools, department, district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 budget proposal for submission in BAC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pare budget sub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ril-May-June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School/Department level planning undertaken (Using Porter templates?, et 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xt Steps of MT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1600200"/>
            <a:ext cx="7239240" cy="63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ement Team Feedback @ Dec 04 Mgt Team Mt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 RFP for Infrastructure Review and/or Planning Consultan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Stage for School/Department Level Pla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Infrastructure 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going communications with Management 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re budget submission for 05/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TC Memb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b Peacock (Chai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y Hoff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b E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rry West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ris Vardabas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n Gatz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b Old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ve L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uce Weitz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ry Ad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nagement Team Focus for 04/05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alking the Talk wherever, whene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a standing “ICT slot” at Mgt Team for in-service and model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start using Instant Messaging (MSN) to communicate within district, with one 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start using Elluminate Live (vClass) for meet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ussion Groups &amp; Mod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2 East (Bloom) Family - Bruce (Randy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ton Family - Bob O (Jerry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ton Family - Grant (Claudi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SS Family - Morris/Dave L (Bob E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l Family - Harry (Ken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vers: Claudio, Randy, Bob E, Jer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ussion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elements of the proposed framework do you lik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djustments need to be mad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not addressed with this framework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your “big”, “immediate”  “pressing” need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your school have an ICT pla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Other Questions from MTC discussions to dat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ill the classroom of the future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ill a school of the future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will the district of the future respond to ever evolving ICT needs and demand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high a priority is ITC for you when compared to other district need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do we get the money? What do we trade off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results are we getting for our investment in IC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do teachers need to access or use IC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do support staff need to use IC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do you want your school/department to be in 3, 4, 5 yea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otable Quotes and Metaph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idgets to dig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392120" y="1981080"/>
            <a:ext cx="2397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TCC Member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Curriculu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b Peacock (Chai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 Redg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ynn Had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ron P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ris Vardabas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an Lan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son And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n Gatz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b Old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ve L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uce Weitz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ry Ad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ork To 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date to provide input to BAC and Management Team on Information and Communication Technology and Pla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year (04/05)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fix what’s bro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ollowing year (05/06):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 develop a plan and respond to critical/essential ne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years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o implement the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ision Stat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23880" y="1980720"/>
            <a:ext cx="6400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oal of SD22’s new ICT plan is to have staff of SD22 be able to access and use ICT tool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enhance student learn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reate operational efficienc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ur Beliefs (Principles)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ICT Plan will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 student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hance communications and collabo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 effici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ster and develop a culture of inno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Achieve Our Vision, our Plan must b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rehens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abor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earch Ba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Eff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gaging Stakehold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scally Sustain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nov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 Orien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in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ive to evolving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s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696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have decided upon 4 “Action” areas, each with its own work plan and timeline, but integrated and coordinated with each of the other action areas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3430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ur ICT Vision has 4 components: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Access Plan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Standardization Plan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Replacement Plan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Staff Development Pla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2T23:57:39Z</dcterms:created>
  <dc:creator>Harry Adam</dc:creator>
  <dc:description/>
  <dc:language>en-US</dc:language>
  <cp:lastModifiedBy>Harry Adam</cp:lastModifiedBy>
  <cp:lastPrinted>2009-01-28T21:45:26Z</cp:lastPrinted>
  <dcterms:modified xsi:type="dcterms:W3CDTF">2009-11-04T17:20:25Z</dcterms:modified>
  <cp:revision>45</cp:revision>
  <dc:subject/>
  <dc:title>SD22 (Vernon)  Comprehensive Information Technology and  Communications (ITC) Plan 2005 Draft Guidelines</dc:title>
</cp:coreProperties>
</file>